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178-3732-4EE4-A0CA-B43A91F3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7BA-F777-47AC-940F-1F85EA6F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F80-D015-43D2-98D4-B9D9FB10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B38-3C75-4CF3-B6FD-05828631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81CD-19E5-4F4F-9D54-C398FD14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D047-2BBD-4590-9543-3051F65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8E5F-4399-4576-9549-9522B430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4AD7-FF39-48B7-92A1-C838F583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442C-5BA7-4BC3-96B2-7048589E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06B-1606-41EA-A99B-99986215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7FF9-21A6-4C76-8CEC-7A13384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DDA-8F02-43D1-9C11-5CBD443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3309-ADF0-4F03-910A-55DB7A8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261-64A1-4352-848D-4FCED5D3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120A-2F10-4126-ACD3-E40FE4F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D141-BCC3-4BFB-B7F3-3EE6C0DB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7ECA-9B7B-4D02-968D-532AAC8D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D686-6258-4E96-A654-3D221CE8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70C6-CC3C-4A82-B464-21C7F1C8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AA76-7EE8-4186-91C4-DB98EB7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B826-B6C7-447E-B965-729BAE16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01C4-8CF1-4CB4-B026-AFA07591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6BB-3DDE-46D9-A678-E3884437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B0B2-BD72-440C-8A94-587FB63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9C96-F2F4-4C58-9820-3D905729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A5A1-35B2-4955-BDB9-03BA09C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491E9-CAF9-428A-AB5F-2B217F4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7507-2ED9-472F-BEBD-7A9477A1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AA4B-9060-46AE-914C-39BA77D8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74B3-88CA-4F16-89AB-BB54854A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A2B7-F88B-49E4-9363-DD98A8F4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FEED-AF48-4F8E-B5A6-66438318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079D-D6AC-4C66-91D3-D736569B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ED5-C877-481C-8A53-F20ED47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BAB9-1151-4BEB-8FCE-9FB5AF23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1B6B-38F2-4E20-9C65-9BD7452F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F458-644F-492F-8337-34A79166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3F12-2E2C-46B3-9783-D78729B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7B3F-93D6-4FFB-9AAF-5E6D012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885D-BB0C-4779-B243-CE2C4F8C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8464-C2E2-4307-BC8A-DB1438C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9970-2567-4F56-A61F-5C52C956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E8A0-D578-44D8-A66A-39E32883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884F-AEB9-464F-8772-657A9B95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FA6-CF0D-496F-8CF3-C8076FB6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FC830-145E-465E-AA00-27391DBF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0F37-4EC2-4B57-8A32-8C7DA24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C7FF-DBA2-4046-B989-064A43E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7E3CB-FD64-4B98-9C0F-8AFF26B5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862B-7557-4B1F-87E9-C411D4E1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947DD-5BF9-48E4-B7D1-1BC7955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DF51-64AF-4ED3-A43B-3E5D414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F682-441B-41BF-879B-2D0CF1D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0599-CFBD-41DD-A3FB-9D4E681A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75F6-290B-4D23-B7CF-06F63946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8CA-23BC-44E6-A02A-55DE838F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68B7-CFA2-4FFE-9889-EFBC7A35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00A-691B-4AF0-BEE5-620E1A6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FCA-6C06-4893-9B8A-727EB95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6CD-F254-455C-8B12-84AB21D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E44F0-6E19-4A6F-8E72-A3DB088E7C5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C0819-66E5-4225-9652-C15A3BF0F9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38E91-F8B1-4835-98CA-023A32372B6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AC287-299A-41E9-9F3A-388F40323A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71DC2-B750-4E94-A798-2B8B78FF89EA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82326-5624-4143-BCDB-2994AEAEE9C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223BB-D2A9-4A54-9B1E-902C8830116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3ACDE-47ED-4E16-A645-F0D8CE698C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D5FD2-66BD-4ADB-842A-3AAFD671C2F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8BC03-8602-4FD9-AA34-D9639EB495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… 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and how can I use them to measure student learning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What are Formative Assessment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y Formative Assessmen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lps you check on student prog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ows you to provide mid-teaching corr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asures student lear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are formative assessment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 observ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ourn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ick Wri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izz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 Assess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asswor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ules to Remember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why the assignment is valuable for lear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 on quality not quant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ry the types of assign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your students’ nee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ver use as a punish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ide prompt feedbac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ve students feedback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are they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do they need to b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ments that students can use to impro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ments should facilitate further lear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dent </a:t>
            </a:r>
            <a:r>
              <a:rPr b="0" lang="en-US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L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arning </a:t>
            </a:r>
            <a:r>
              <a:rPr b="0" lang="en-US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A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ose:  To administer a formative assessment, analyze the results, and prepare a plan for instr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 Let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hedule the Assessment (Activity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the learning goals/outcomes (minimum of 2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ord what happens during the assess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ore the Assessment (Activity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-------------------------------------------------------------------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alyze the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are the results with your 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 the re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12:57Z</dcterms:created>
  <dc:creator>EMU User</dc:creator>
  <dc:description/>
  <dc:language>en-US</dc:language>
  <cp:lastModifiedBy>EMU User</cp:lastModifiedBy>
  <dcterms:modified xsi:type="dcterms:W3CDTF">2011-01-26T16:49:07Z</dcterms:modified>
  <cp:revision>1</cp:revision>
  <dc:subject/>
  <dc:title>What are Formative Assessments?</dc:title>
</cp:coreProperties>
</file>